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B2E1-F341-4B7D-9E12-DF5D8A70D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C5B7-20FA-483C-A8D6-2A856B6BA60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C845-6496-4030-9469-8A04541E8A7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0D6E-436D-4C93-AA01-888BE46A91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4A9D-4FB5-4E68-BE51-F498A45BBDB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19F7-5B96-4646-8695-E16033BEF6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13FA-E7F0-4856-9691-8C3E6B403D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E196-9225-4634-8741-63700BEE55B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44E7-A0EE-4F36-AD12-996D66B03E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7BC7-DC0F-41CC-A460-E3CF8EEF55D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6310-D1B4-4163-A788-DC427F09DA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4397-D5D6-4200-970F-3AA4EA4A16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0366-A0A3-42BF-96C7-70F4299F560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C7B9-CE31-4724-B61E-363CB721EC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9D10-AB5B-4784-8373-F904EA3BE7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3117-5D31-49B6-A378-4BE349F227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31F7-5F6E-432E-8B7C-75FF4EE8D29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ED87-733F-40CD-B4E6-E0F3FBBC085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19E3-0D4A-42B7-9FF7-697AA3B0B0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EF67-DC3A-4E20-8929-C9A954160D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9A86-22A6-4215-AE35-AD26BB7934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069D-6D3C-4A82-AB82-7BAC49956B8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3F08-7186-47EA-B0DB-977C0F8E04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7FFE-5905-4527-B43C-C34B1D18E0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E892-1C2A-4A20-B6E7-EB7A40AF61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EBD5-87DC-482E-93F2-2C05F00FB8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992B-772A-46D0-89CF-C22551D2513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C31F-C6E3-4C89-811E-DFAE0199BC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29BB-D472-48A7-9A8C-774D062E35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778D-C7E7-4667-B8D1-C606D9E8DE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60A5-69A5-469E-8C61-E235B67377B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8D49-AF69-463E-A1F5-8EA52BE6630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BE2D-5E13-4C07-B8D5-46DA70B258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17C7-06BF-4BB5-BED4-3F51D2FA79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DF5B-33F6-4F8A-B937-F9936ED69D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27CE-B556-4D4F-B664-2C041BC629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6BEE7-40C3-4D50-9754-E91CA36AA4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B16E896-7DEB-4144-8198-AA79A8C42BA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18F3ADF-D4B2-4DEC-978C-CD22C2C543A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9FD4D55-5715-4DC3-A242-F190280A62D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834CA933-B363-4663-BF82-F1836BECE77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FDA31F3-C7AC-455A-8504-3D6BD8072AC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71494B2-66D5-4C59-BB9E-E511B61CAC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8667241-D9CF-4563-8848-010ED2617C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D15F816-F7DA-46B7-9A0E-128A544873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51A8784F-3A56-4B00-B395-E64C56CE44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D8BEF7C1-75FC-46F7-BED6-49A7CE78BEA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B55FF6F-5120-4A78-9641-8591FEAAE1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E260D1B9-C6A4-4598-B2C5-E268B0C463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6432D30-8420-4ABA-B40D-965214FEEB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9C60AD0-E078-407A-8463-8C0F49489B8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F745917-FC45-4035-8F2D-DE6984BD909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417D3B63-CC23-42F8-BC3C-5AA2A6DB6B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04507E83-DB85-47D7-B621-468D7D2D4A3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AC8A778-4467-4F06-BEB3-40F138DD01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B7B5251-5140-4E93-BB97-E806103992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936574A-C0B4-493D-A395-DE0823ADF3E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E992A0E-E3D9-4987-93AB-4C87C1A0042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B4C8CAEE-E87F-4CFD-8B12-44B80BC3B7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0A52595-36B6-4302-BDF3-0EA8ADB4561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E3CCEB1F-19D1-492A-9E2E-BEAED539101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B77381D-CA80-4FB5-A1D9-7CA4B03DE2D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805DFC9-652C-4E18-BF81-837DC14CA63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EF7FB65-7510-4571-A5F4-365B7519902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F37D16C-628D-4BB0-A35B-DA90CDB8F23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9383713-8472-4EA5-9F13-0CE8D444903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F9807BE-7FF8-4829-83E9-9B7B55FDBFC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11E359B-F356-4400-8FC7-BCDB28426C2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6B65EC6-09BE-4D10-AE58-87ABE2FC8D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22FB28B-BF29-42E1-9F74-9B734F432F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36C885-CFF4-40FD-95B8-70B191F3749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222FD42-5D51-4619-92C7-A849A5964AF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EDE7E9F0-C22A-46EB-91D2-DEB0108624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C786976-BAE4-49B0-B62A-53C61E75CED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45BB7FF-774F-44CC-A4BE-3F6BD42E618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D383C7C-93C3-4A50-B362-E14080859DF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862F77D-158A-4C5F-BFCC-FD0DDCD0FB0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E97555C-4AFD-418B-A320-442B74EF77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49D1EDD3-329E-4285-91A9-518418748B9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C858F72-1E8F-4950-8CED-161E8BD2C4C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B18D8D2-C508-4F27-ACE4-78FBD87630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2E34912-003F-46B9-BAEF-3BF8EB55BFE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464F118-0F93-4446-8F0E-0B52EE9682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108C990-2659-4AAB-87E6-2BA7A886C0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092A77A-931D-44FD-AF16-6EAFE292E9D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1FAB737-9B37-4F72-804A-F1D341DDEC9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B87D7EAE-FEB9-4F98-B200-5403BEB22BC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B4261F5-3D44-416C-A5BC-C40ACE0640A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2EA98F7-B2F6-427C-ADDD-082F3BD9641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4EF76CBE-703B-40FC-A1F3-49BAF9D1471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CF99F44-9297-450E-90E9-C9737332670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B0729B42-F538-4917-B7C9-4808DB79BD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2126C02-5CBD-475A-8511-4A2112B43C5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1C1CFF6-B08D-439F-AD4E-27228CB9D16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8389A1E-18AA-4CE6-915B-56966823446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F77A80F-EDEA-47CB-80CC-7ECA02E25E2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55F49DA-5184-4161-8AD0-A2C3D819E0E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A3AE509-A8C8-4AEF-9BB7-042EE421BBC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9A4E457-6D42-42CA-A074-E9F1F30264C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94B4AF43-F5FC-4695-BBB9-D1AF69E8BDD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52FC449-F8A4-4E01-8EBD-CE50CA04C1A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248185A-3B54-4447-9B1D-72F1D7156AE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DB6F2C6-7524-451F-AAC4-9B342FF247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0138507-C22A-45A9-983F-4FD30A2A9BF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DFCD98B-E7EC-4BC8-99AE-CA8B1505126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284D9AF-72D0-46FF-B01F-6C4B997552A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32E5405-4FC5-461A-8E96-470D07CB7BC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8FA4C14-2464-416B-8167-5A80763CC18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A47F77C-6B6D-4A1E-8E62-95D6B3E3A2E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BCD2910-8E8B-4616-B3CE-D76D6849EDB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0CAAC6C-EAB4-4518-ACC2-21C548C22CE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70501029-DFFE-4BFD-9145-701C3FE04B9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C3A4CB5-7F60-4535-8490-065C66A81CC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DB8C355-E227-41AD-B028-AC6C1CCB57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2E0D6DC-60B6-4DF8-B709-EFECD336305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1E25D47-D1C6-4B62-9B05-551C0E33AE8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32541BD-A628-4F6F-A647-409B1495668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B878584-54D4-4037-8161-5C413FBC67F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EB492BF6-DE8E-412A-B7DF-03D66381ECA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CA70DF7-9E3F-4EF2-A6B6-60D57C7E5E4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ABF68D6-420E-44D4-8DE6-06B538A3DAA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2A390ED-B974-4F7D-9A2F-269202D47E2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5E50F99-86DB-4617-8BC1-C86BD2F77AA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D829DF9-1CEB-4E75-86F2-FF7C1C897DD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D75E1553-EA42-4CFB-81E1-E940FCA27D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AEF77B7-71C7-4127-82E6-94ADA14CA3E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EDE97FDD-B277-4806-9DF0-5A01F3D0066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535DBCA-83BB-44FA-AD0A-29E589B1DE9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43DE7BD-B6DD-48F5-940C-2DC0BEED22F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6842202-4F4E-4FD7-9B22-FA5A11BF59F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41586EA-B99B-496D-B339-23AA0D65F2C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D5BA2A9-6ADF-4D26-B819-0C854E8FECF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D35CF64-8EFE-4324-86DC-94659932BBC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36EF1EC-0983-441D-8621-0E7BE3ED883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D5AE7E9-A167-40CC-B804-D8078E0DC2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65283BB-132F-4271-A9DF-DF1648D20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B385A54-C02F-495B-8A77-5605C600C6B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328CD53-7FD9-4B95-B0B7-DAD895F6DE5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307E50A-308B-40B5-BEF6-29658ED0805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2023316-5BED-4C18-A00F-4220F63539B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6B75B897-F95E-4619-B154-7CDE7BD47F0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9D1F5CAF-A362-4B84-9570-CF04F5210AE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A470FC8-AA84-4462-8C98-E2992442CC6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CE29F8E-7E69-4E38-80AF-0737AFF3EB6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FA2A2A6-31A8-4D4C-BF0E-7A9AC8E3F8B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AD672EE-ABFF-44F3-9FF9-56CD2F6DDF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BAC2A26-91E1-4D1C-8139-498DAED18FD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5881188-A100-4E18-8C72-29DA596D198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787108A-D8B3-4EB2-B5D2-E4432E52020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8D078064-2734-4880-B96B-1DC9CD058A8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3D58B5F-E1B7-4EC8-BD53-C628B7284DB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ED04C2A-7E67-4A1E-BE10-3FDB1E982DD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DD4A315-7FBE-48A5-9938-E6FF5E5FC1D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8C86A5B-DEA8-44DF-9CA9-3E95A079A91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BC22401-F110-4E41-AFFF-E259FF0A909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EB9613FF-0648-4417-AEEE-E47F19EA858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FA5DB4B-CDB1-4235-8B7C-53F10D9E65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4378B4D3-8E65-4C27-950B-40B21ECD7ED5}"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B9AF35C-1F19-4159-B3E1-9B6D4CB6438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46738F3-3C89-40CA-BF2B-52E8DACDE71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EAC84B7-E349-44A3-AF9C-D494FFF96DE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E8FC8C5-47F9-44F5-A8B9-F3ECEBF66C6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270210C-E19A-4246-81FA-03FA70DF968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624C412-01F6-4740-8248-F6A5322868F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38F2F3A-5F18-4DE9-9BED-879254E5CBC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4A02DE2-CA55-4270-8E5A-744298A1B6F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56B19FF-D190-435A-BA19-9F4B27B7DB3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F9D4C7B4-CC95-49AB-8D1C-AE27516861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BAB5E20-D91D-472C-B3A7-7B60F407058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C9F6403-2546-482A-AEF3-CEC9981843D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E207E97-B2CD-406F-8C62-D9879B89CB7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5C349B1-568F-4F03-B87A-44ED74450CA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A829265-E9E4-476B-860F-AC944450BD7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2DA60F3-207D-4E55-BC76-E13AB6951D5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C95C8CD-70A0-4155-97C6-A365F537A75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77E632D-58A2-4D2D-8596-BF42236178A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E6E492D-AAF7-45A0-B0DD-A317714985D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B2062D5-C82D-469D-A8FA-CE0841B0CDE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0320127-35E5-49EC-969A-77ACDE8F45F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545FFF-C399-4654-9F4C-AEE2CCAE1CB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FB78407-D3B5-4067-BCC6-BCB1B441D41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FC784BEE-9477-45CD-A490-6FC5D12325C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CE6DEA1-A399-4A94-843A-A5869798353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C675DBB-58EB-451B-A4D8-BD306296FFB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BC6EAFE-168F-40C1-8048-2E3DB8FA692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FBB075F-A8AE-4ED7-96C0-664321F63E8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A348DE4-65EE-4275-8E22-90CB5017C8F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BA74201-F6B0-4F38-9F59-DA8FF55139A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A0F0796C-23DC-4899-96B1-B8BC66F3310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06498C6-BA3B-4327-B49F-4BD884E13F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FF91292-D44E-4639-A1F4-0BFAF28214D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E4E04D6-5DD1-4EFA-A3D9-B3978421276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FB0FAF3-803B-4408-8578-1D6F945BBA9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1F74C13-BCCC-4027-BB90-C14DC072FCE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A2559E97-7FC6-43EE-8AD7-51D6E05D0A1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2C29B11-84CC-416D-9FBC-531A899E346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8B1FD14-A83C-48CA-9481-00FA17C6AAA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17901D9-2888-4FA5-9D1E-909CB2DE280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1B28C48-9BFD-4E84-A62F-83C9A414D1A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EC2BF26-3E85-4470-AE1F-4CB8FF11D91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0FE42BD-A038-4AB4-A0A8-B8E01EC7F8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6FF519C-48D3-41EE-AAC6-0837E430260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8DC8F66-96DF-4454-85FA-3D825AE0CCE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E20D83A-4C4E-4307-B157-106FA8F5B05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981BDA2-0504-4A9C-928D-A8AD8305756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BCDD36A-E0D8-4E93-8FC3-BFB69056B83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B0E6B94-1EA7-4D0D-B2A1-20BC5C4D83C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B05C97A2-CD7E-44B7-B17D-6E20255734C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3F450BB8-966B-42D9-8FC9-F8D8D4F3339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6AFF58B-0FF4-42F3-B58F-7E6E597253B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B8FF1686-8976-4003-96FB-DDA6ED965DE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68E2465-97EB-4569-BD3A-1319634CC1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C8D8BBD-E303-4FE9-980D-E0E1A1B5AA4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2B161B6-D1F1-4C39-AD29-56975E64895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A3F88B2E-A75B-4EBB-B0AE-529E7E7B73F9}"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179E9E30-3C54-48B3-8FB1-CE06772C815B}"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AD1ACC3-F10B-4251-874D-2D641EC2C88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A8A1FCA-0FA0-4A34-80B0-76FF9C473133}"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196E430-A072-4778-A93B-C33444CBFDB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A872D9E-04A4-4934-9D47-8ABFF9D9646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0CA9E452-EFDD-48C0-9C11-799EECF21A76}"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8F510666-C78B-45AC-BB29-573390A56E5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69FC87F-5442-4933-A569-F65699C496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488FA8E4-DAA5-43B1-BEAF-9332F65F7DE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CD48F6E0-4B4F-4884-9E19-BD71079444E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D99ACDE9-69BD-4895-BEC2-C05AB64B300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51B66BC0-3BF0-46FD-9529-A032F0CBDE9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4C522088-D9EC-4FA4-8928-5CE1377496A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E085D542-675A-430F-B955-3798BA78F34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29FC9F82-FADC-4BF9-8B52-F2E2717A837A}"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3669E9E3-5BAD-4C86-91D3-298EECC9261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B7207425-E319-4457-ADCB-BC0E985ACC9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188A97D1-FCA4-42AE-834C-DB202C4402C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6ACEFA7B-5A8A-4784-9FDB-CF62178EF4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96E286B-D47D-4DFF-A29C-4107F55412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88F10C3-4A6B-493C-9C46-C245F7980F6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8032E9B7-1F82-45FC-968C-90F7A51C7747}"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EEB65A2-674E-4E6E-8FE8-82839BB0D2C7}"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73B7AF57-C008-4EAD-AAEE-23B9794273F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3E8B2F8B-A762-41C6-8009-B3A44A073019}"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8EAA7331-8D32-4FB9-B8B8-02B355F68160}"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B351D77B-B149-48A6-B0DD-0E28E1FA4520}"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3B435335-E463-4324-A423-A415179609F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53857C22-DC33-48E0-8DAF-5A37F8E20DD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91F52BD2-3BAB-4764-828A-E9F807803C4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09A1FEA2-E4E9-4BD7-AAF9-EB68C2E0FA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064EA2A-1118-4745-9A17-6B19496C4F9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20D0222F-D53F-47D5-9CAA-C1870353AB8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FCAB00F4-4699-4472-ADBB-1C35201B7A0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053F7C01-BED8-4022-9973-9990B852A4A2}"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B8704EF-C636-4FAF-8D1F-5697FF6E4AA7}"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C229811D-AFDF-466E-8DC3-D1876E76C5E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CC35143C-58FE-4207-A8B4-20368E2672F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3446557E-189E-43FB-91A3-F51D530FAD2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51457951-C667-4249-9F4B-1CA00969CD2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296BAE49-8FA5-4316-A2F2-2AE2B7D142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37FF8E1-0B9D-4E9B-B8D5-8787A2BA989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9F80DBD8-A7B4-441F-9055-C8EB749F51D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14F6E290-F950-4F55-9D6D-0581C78A6F85}"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BBF999E-0EF8-4392-95C2-6C64CE31FA7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E8EE171-3E73-4C00-8764-017C117A152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78118013-7F48-4E48-97F2-F34F83F91DB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97045827-88CC-4FC3-BCA0-763EFAEE651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4F4304CB-FF66-4A86-AADA-ECE98060E2A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77D24F8-03F8-4D01-999F-8C19481AC50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08B875D-C5E1-48D6-9523-D6F7347C57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89ECB35D-F778-4CFA-98B7-7C339CD795A0}"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3B169205-A58A-49E7-A05A-3E01ADD3F71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032DF06C-67BF-4E7B-909B-ABDB4E523BE6}"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86E0D801-F21C-4CA0-AEB5-4649BDD65615}"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CA2F5671-3C7B-4DBB-855E-7288F990770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FECCA7E9-B988-4709-90B9-B14EC822C15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8454207-4B89-49BE-866F-D422A505ADE6}"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96BEB3F-0C42-49FA-A3C2-BCE89FA1D1F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0D8EEE6F-1A43-4CB3-920A-4971DB6F529A}"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A3BEE686-97AF-454E-9F7B-8D2885D21047}"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3C155EAC-7F5B-4C48-B9E1-D8D2C4C69DB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55E31D6-690C-4EF3-B0DA-0E6C505A4E3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89ACD821-2153-4813-ACDA-CF3C347EB0F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D85397D-F7CE-4BAD-B041-C04B4AE8D75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265D74A1-FBCA-4707-83C3-4182D2E4C78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FECC75FB-6E22-484A-B5AC-E1F0733E5B58}"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59FC0E87-2EAD-4D58-AC5A-EA09858224DC}"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D8587075-E793-48A9-9B68-9AA52D5EBF3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65374D71-616F-4F23-A1F4-DC7BDD462A59}"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2771ED7F-7D86-46AA-B0E8-A1E8FF062949}"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AED248D8-55CA-4083-849C-E73D95AF644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5E7285C3-A215-4843-9776-44D7F3A8B7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FA7B4DFF-05F0-464A-B38B-3CB9C485FBE6}"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CB8E47B2-CFA7-41E7-9F40-E36129307A3A}"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88869006-5904-42DE-AC7E-B5AC9550033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F885784-4103-480D-94F0-213C16449F8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5765F8D3-5F9C-4F8F-BE0F-39E74FA9E810}"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87B5E99-24A2-4BA8-BAA0-BD797D15EA10}"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D376E7D6-8073-4F7C-AAE9-8067B5ABAC9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16B22B54-D929-4605-BC39-CCEDFFF5319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B0D94727-F28B-4FB9-BF5D-9DFA2C518067}"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1C815D8-5FDC-4617-910B-D57EC20AF78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2ED9466-7BBE-4C62-ADF3-1AEDE31A691B}"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9B256432-4FCF-465E-91CD-E45892D1A01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3FE66EDC-FFF7-42B6-97CC-53B9389C7D3F}"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CD69FD34-D6D6-4C7A-A12E-B6345E8264D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2C4077A3-AD83-47C9-8B6F-CFA136786BA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FC9CD41-A7D4-4D88-906D-07B6798D9FE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D9128A7F-0F34-4332-AA5A-046290A4195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386FC614-7165-4C40-9346-CB97F6F03182}"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7A511FC9-085C-4677-B0D7-676DFF100CF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035B3FF2-1166-4E46-8F23-158D8620C4D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29DA9232-C899-4074-B8CB-03C3C68704A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54E6E8A-1904-43A1-928C-F1F1C240EC05}"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3F16037B-A5C5-4988-B567-F65FBEAE9402}"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9D851FCD-5BC4-4B3B-B4E2-28E454E66CC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9613BDC8-C353-4CD5-83A1-C9C84375FDBE}"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130561B4-28EA-40F1-AB8F-312729E8E6C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B448D52D-A5A9-4E56-BE58-E2B7F7723716}"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276A8C7-E579-4773-A9E9-7F2F4A5061C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7DCA1CED-3FAB-42A7-9741-FE5C6A02C66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7DE20398-DAD1-4447-A92A-398E82EF00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34B9F52-2D34-4D3B-96C9-C62F129EE8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92D2E969-D568-44B0-955A-5C3381F2BC3E}"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B223BCBD-5BD3-4CE7-A9F8-2B3B4914AD1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EAB6FAE7-29E0-4504-BA17-DB3F8F0DA57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E81C43CA-4105-4D26-BA43-7D4AEF73C19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15FA28D7-94C8-466D-9267-78C4527556B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6C839E34-B85D-4096-881A-97FCAE591DE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213A8BDA-118B-4218-9883-CA570D3DA21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4D1B6238-6190-49AE-85B0-D59440FD1139}"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6CF2F721-F739-45FC-BD82-27474ECE6C1D}"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C9855224-6FFF-4E7B-BDE4-2E174879AD3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94F3A384-D975-48E0-9766-2241EF4CD53A}"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404A36FF-1A85-442B-ABE8-162F8E36713C}"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75EE4AA2-F0E4-44EB-A8D6-D67E5BE4F7BF}"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650B6E35-3D0A-435E-9CF0-228FA30A52A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90A6F53B-2BD2-406B-85DD-CB4DD862D47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DA7F492-AAF8-4C84-AD76-3608FF051B30}"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B1C853A-7DDD-42D2-980A-6482CEA97FA4}"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67A00272-C86C-4C5F-A542-A93FDD2666D7}"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8E8CAC89-CE8E-43CB-A1CE-615CE67ACB3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20DEDA6A-7838-46BC-BAE7-1505E0F8963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07077B91-FEA3-4EB3-A9D3-6DF4DD7BA0C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6FAAFBC1-8021-4465-96C6-37477B989F85}"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6976F933-7CBD-49C4-A1CC-F072BCB3797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76AED08D-6003-4380-A3F5-79F0092FF25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83C98B27-230F-459D-88B1-2ABA3FC3A226}"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350CBB21-9736-4A7D-BA94-62FB0C8C781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48736BC3-C36B-4BEC-B00C-9C52BD8B3D4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84ECF935-4003-4FFA-AC34-3491CE9B713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8C9DF1E2-372A-4C3E-99BB-E76B35C2BD1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4D23EAA8-4E0C-4407-93ED-099B21B48ED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CA475E23-31E8-403B-BED4-CD5E9BB9815C}"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84FFC01E-7D58-4BA2-A6B5-3A7ECEB6439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0F6E0BAB-2698-4D85-97D2-F644C578F7B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0A4EF97C-FC19-4099-9750-7404BEA604A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BBB6376D-4B56-44A4-8406-45F9008A77F8}"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47A2ECA-41C3-45A1-B573-B072D0349BF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33A6D97D-0E8D-4346-8CCC-F51680C838D2}"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A722E603-0FF8-43AF-81B2-869436417AB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14CB2CD9-6B0A-45D8-BD52-846346C6C148}"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21F51130-CA20-41D1-A1FA-F77971DE5B2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92E8D01-322B-4C00-B237-70BB49D50D4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2D5FDEDA-7CEF-405B-9DCA-E102CB616CE9}"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374A14F5-3DAD-44EE-A12D-F8B60F4E8E0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F7AF270B-2E55-4501-8DF1-934805614231}"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48599849-9105-4FD1-BBE4-EA06B79EB27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52AFDF-4426-42C4-8A63-3A9AB194F8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1C7CE84F-427F-4703-A905-B3A8F18D60A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2F8C4BC-34BA-4392-A8F1-46BD5A0692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CDBFA5D-C73A-4522-BD36-6EE57860120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78FD581-FF8C-424F-98C7-D969ADBD081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AF2904B-BBC9-4ACF-8053-ADC10FAEF79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31D39EF9-71DC-4EC3-B2E5-0BF0954CDF2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C4BB842-6540-4A48-AE1B-B5B728EA912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606658C-75E9-464F-8B2F-EDC38D1BEFD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355F829-E32E-40F9-8B44-B67B8709CB4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E800822-20A1-49D3-9C1D-18078E757E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346AA86-9AD2-4613-8D2B-6F87B51EFD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793B5D1-25D7-4D5E-AE4C-7D8525F6F40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9CAE974D-CF21-49DB-8670-646E8F6A00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5FAD903-A3D5-4F8F-B4A9-F75FDA42133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1A4097E-7B32-41E7-A7EE-D7D56ED0481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F5C0B44-D78D-4CE8-9F22-34A5154E19E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087A6FB-4615-4C11-81DC-B31AF78C903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C2B5E9A-F9B5-4093-BB33-97AA8EAC889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2975004-3D38-4EDE-AAAB-855CDE68BAB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A9061C2-6681-421A-81D6-917F88D174B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9ABB471-61F8-4809-9F3A-D6E9090CCA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482441D-9BDA-489D-B9BA-4B9BBE35A8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14A61FF-AFE0-4292-AC86-CA7C3375AEA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94D1145-6F1D-4127-B045-8B058054361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4496808-F6EE-4083-B350-9C881DDC248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86A7188D-2682-4017-BE95-BFE17068129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BED73DD-64D2-43C5-AB86-27EBBBE9E6D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B47CF0E-D067-4BF0-AF6D-B1CC5EB871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DFC6B2A-EF9A-4331-A25A-DF9FC927595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4BD0F47-9D3C-425B-9647-54EF624DA1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D421C76-9806-4556-ACD6-F4A20E60532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B3604B97-7195-4A75-ACDC-1C7094A10A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C99CF2E-A8A2-4C02-BF9B-C5427439E98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E3117AA-A8FC-40B3-898B-005A330E52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5936406-5773-4453-BA4C-3DE6C814C08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85E38EC-46DA-40AB-A2B0-1DDEEB8299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57832FD-A589-481C-A4DD-F01ADEEF296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5F9C800-5F71-4827-ABA1-38C7E6E0F6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68EE03BC-0AED-4A48-BDAB-DFFB809226B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8D25DDD-275F-4E33-9EF3-65A8FF4C622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2A7192A-2688-4293-B320-EC6B0BD608E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828171D-7CEE-4238-9BF5-C8706FD0E8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68635B9-55F1-4B05-8797-84B925DC57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0D1A-F181-45DA-A88C-CA3ACCA10D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4B23-085A-405B-99FD-C4F8544FD9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7016-2AB4-421F-AFE1-3718D03B8C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4812-DCE7-430F-8308-6FBDE4DFDB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3577-B58E-4A99-8DCA-9DF31565DA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0100-65EA-4EE8-9859-340DC45E46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8A87-197C-48B9-BD62-6A5D9BDABC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1791-2D99-4828-A1BE-B8A905B999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366D-A1C1-474F-AAB1-4546DEC02B85}"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69F1-CB29-4379-8AF9-0F3DEAAB65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7477-16E5-4290-9FB3-C3F6F42A56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0285-47A3-41E4-BD04-DFD47A5F8A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B2D3-4C1B-4635-A982-C784BD6912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715D-AB7F-4B3B-BB65-563CF03360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5054-E78A-45FE-A5F3-999A1A5CD1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010E-C376-48C4-A757-409AB09E7A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9AFD-A756-4AD3-B150-534AECD41B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8465-B752-45BA-9823-88D5CF0202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ADF6-019D-421C-A0D8-0BA14BB393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F245-2366-4C99-8B9B-A59E63F8A2D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A3E3-05DC-40DD-A8D8-68D3D94E93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8B96-21A2-4DC3-8E9C-4777DD92B0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1900-5561-4A08-B082-B7B865A4D5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FB03-0B39-4648-AF3D-51B3E5B017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C33D-9AC2-45A7-A141-55FE323A92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A022-AC8A-4ED2-969F-AB0D84E57D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6540-7167-4D88-BAB0-616B84369B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ECE7-92C5-4862-B605-85CC2565FD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A28A-094B-4EDA-8A1C-EB48893962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14AA-82C9-4849-AD01-03E7BFE2E6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4226-07DE-4C33-8221-88349DE9F3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3C76-2FCF-4284-A67E-2B3CC7B1B37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829B-70FD-499F-ACAA-BC83F064DA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6AB9-1B8A-4511-BC12-8DDE8A4E6C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71B9-CDAC-4117-973E-352F29D23C7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BB0F-85B0-439E-B576-9A46590D163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7BFA-96C3-41FD-9718-412985DF493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2B0D-9E39-4C92-8D0F-0B1E104E534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